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862-293C-4872-B1DF-68B7DF2B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6A3-4336-44AA-9583-5B547FA8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FF41-49B1-47B9-AD86-C991C29F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71A-650A-4874-8026-231EC94A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B87-028F-4F14-AA66-26A09175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490-7313-445A-9507-3AE79534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27C-EEC4-488A-806F-0A70FE4C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F68-78E7-4A9A-8F4D-895FE3D0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7674-A2F8-4275-BBCD-7E112903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9EF-D999-48BA-AB83-557E4D15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EEE-6179-4762-B889-B73F53A2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E02-C08C-494A-B97A-4E7F0FC0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536A-6810-483C-8BAA-8233A97E8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e_09-3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2" name="col3" descr=""/>
          <p:cNvPicPr/>
          <p:nvPr/>
        </p:nvPicPr>
        <p:blipFill>
          <a:blip r:embed="rId2"/>
          <a:stretch/>
        </p:blipFill>
        <p:spPr>
          <a:xfrm>
            <a:off x="5562720" y="685800"/>
            <a:ext cx="2666880" cy="3809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46120" y="4648320"/>
            <a:ext cx="24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s a bo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1280" y="4572000"/>
            <a:ext cx="25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was a gi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920" y="5715000"/>
            <a:ext cx="55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 make it anymore obvious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72200" y="52578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earth20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62160" cy="3962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85200" y="5334120"/>
            <a:ext cx="67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needed to come back down to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11360" y="5638680"/>
            <a:ext cx="35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s a skater bo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JHerb%20skateboarder" descr=""/>
          <p:cNvPicPr/>
          <p:nvPr/>
        </p:nvPicPr>
        <p:blipFill>
          <a:blip r:embed="rId1"/>
          <a:stretch/>
        </p:blipFill>
        <p:spPr>
          <a:xfrm>
            <a:off x="2743200" y="457200"/>
            <a:ext cx="3344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l3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2666880" cy="3809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99000" y="5181480"/>
            <a:ext cx="50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said, “see you later, bo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pe_waving_hand_md_whtb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2476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96840" y="5181480"/>
            <a:ext cx="53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sn’t good enough for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ee_09-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V="1">
            <a:off x="762120" y="533520"/>
            <a:ext cx="3429000" cy="4419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09120" y="533520"/>
            <a:ext cx="3429000" cy="4419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ol3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266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_light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506760" cy="3810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1400" y="449568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had a pretty 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7120" y="571500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her head                  was up in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895480" y="51814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238880" y="5181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earth20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62160" cy="3962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85200" y="5334120"/>
            <a:ext cx="67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needed to come back down to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11360" y="5638680"/>
            <a:ext cx="35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s a skater bo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skateboarding" descr=""/>
          <p:cNvPicPr/>
          <p:nvPr/>
        </p:nvPicPr>
        <p:blipFill>
          <a:blip r:embed="rId1"/>
          <a:stretch/>
        </p:blipFill>
        <p:spPr>
          <a:xfrm>
            <a:off x="2971800" y="380880"/>
            <a:ext cx="2660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106" name="col3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266688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99000" y="5181480"/>
            <a:ext cx="50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said, “see you later, bo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896840" y="5181480"/>
            <a:ext cx="53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sn’t good enough for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ee_09-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762120" y="533520"/>
            <a:ext cx="3429000" cy="4419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09120" y="533520"/>
            <a:ext cx="3429000" cy="4419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col3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266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_light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506760" cy="3810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91400" y="449568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had a pretty 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7120" y="571500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her head                  was up in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95480" y="51814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238880" y="5181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unk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173480" cy="4953240"/>
          </a:xfrm>
          <a:prstGeom prst="rect">
            <a:avLst/>
          </a:prstGeom>
          <a:ln w="0">
            <a:noFill/>
          </a:ln>
        </p:spPr>
      </p:pic>
      <p:pic>
        <p:nvPicPr>
          <p:cNvPr id="48" name="ballet" descr=""/>
          <p:cNvPicPr/>
          <p:nvPr/>
        </p:nvPicPr>
        <p:blipFill>
          <a:blip r:embed="rId2"/>
          <a:stretch/>
        </p:blipFill>
        <p:spPr>
          <a:xfrm>
            <a:off x="4876920" y="11430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2240" y="5181480"/>
            <a:ext cx="269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s a pun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4600" y="518148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did ball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733920" y="5867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934320" y="588636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93360" y="6095880"/>
            <a:ext cx="51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ore               can I s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earth20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62160" cy="3962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85200" y="5334120"/>
            <a:ext cx="67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needed to come back down to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e_09-3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55" name="col3" descr=""/>
          <p:cNvPicPr/>
          <p:nvPr/>
        </p:nvPicPr>
        <p:blipFill>
          <a:blip r:embed="rId2"/>
          <a:stretch/>
        </p:blipFill>
        <p:spPr>
          <a:xfrm>
            <a:off x="5257800" y="457200"/>
            <a:ext cx="2666880" cy="3809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17160" y="4495680"/>
            <a:ext cx="26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nted h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1600" y="4495680"/>
            <a:ext cx="27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’d never 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34000" y="5715000"/>
            <a:ext cx="70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ly                she wanted him as we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743200" y="54100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riends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638680" y="1447920"/>
            <a:ext cx="243864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681840" y="4495680"/>
            <a:ext cx="36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all of her friend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77880" y="4572000"/>
            <a:ext cx="34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ck up their n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ernestopants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4095720" cy="457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657600" y="52578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4280" y="571500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had a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2960" y="563868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his baggy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260coop4" descr=""/>
          <p:cNvPicPr/>
          <p:nvPr/>
        </p:nvPicPr>
        <p:blipFill>
          <a:blip r:embed="rId3"/>
          <a:stretch/>
        </p:blipFill>
        <p:spPr>
          <a:xfrm>
            <a:off x="5486400" y="304920"/>
            <a:ext cx="2286000" cy="48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kateboarder" descr=""/>
          <p:cNvPicPr/>
          <p:nvPr/>
        </p:nvPicPr>
        <p:blipFill>
          <a:blip r:embed="rId1"/>
          <a:stretch/>
        </p:blipFill>
        <p:spPr>
          <a:xfrm>
            <a:off x="2514600" y="533520"/>
            <a:ext cx="4470480" cy="4724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11360" y="5638680"/>
            <a:ext cx="35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s a skater bo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72" name="col3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2666880" cy="3809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99000" y="5181480"/>
            <a:ext cx="50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said, “see you later, bo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96840" y="5181480"/>
            <a:ext cx="53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sn’t good enough for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ee_09-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762120" y="533520"/>
            <a:ext cx="3429000" cy="4419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09120" y="533520"/>
            <a:ext cx="3429000" cy="4419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col3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266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_light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506760" cy="3810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91400" y="449568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had a pretty 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7120" y="571500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her head                  was up in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95480" y="51814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238880" y="5181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5:27:12Z</dcterms:created>
  <dc:creator>Carol Shockley</dc:creator>
  <dc:description/>
  <dc:language>en-US</dc:language>
  <cp:lastModifiedBy>Carol Shockley</cp:lastModifiedBy>
  <dcterms:modified xsi:type="dcterms:W3CDTF">2002-10-31T16:47:04Z</dcterms:modified>
  <cp:revision>5</cp:revision>
  <dc:subject/>
  <dc:title>PowerPoint Presentation</dc:title>
</cp:coreProperties>
</file>